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18F2-CF03-43E5-9259-E28C51EAE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43BF-6F60-4FB5-8231-500E437D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EE42-9F58-457C-AF8C-BF233E6B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303C-1D64-495D-84F5-D4D1DCEBC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16E7-3661-49EB-91F7-852AA975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3450-295E-4D75-97FB-E5A0DAFF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F95C-D6EF-4AB3-BC37-01A7766A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EAB0-C0A9-4BFC-96A6-24034F07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AD39-FFF0-4032-AA27-A848C9D8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9541-953C-4416-ADAD-DD8AB6A4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6F0C-7517-4F00-8302-C29BFBF4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ED23-A660-4AB5-AEA0-A962AA97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61F2-4A60-40D9-B6BD-3578E481D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219320"/>
            <a:ext cx="883944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 Coding Practice  in Eclipse/StatET/Sweave/Subversion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aine Mc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!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inimize errors and make code easy to understand and reuse for yourself and others, aim to make your analysis code and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ze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reg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iz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der/subfolder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nam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nam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greg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unctions when possible, saved in separate 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specific R Cons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ver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ile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ed output pasting (Ctrl-R, Ctrl-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ver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O, FIXME ta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 control (compare/comm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ver scr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ing/att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sour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b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re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fficient data manipulation (plyr, resha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asy to read plot statements (ggplot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9:05:42Z</dcterms:created>
  <dc:creator>10066925</dc:creator>
  <dc:description/>
  <dc:language>en-US</dc:language>
  <cp:lastModifiedBy>10066925</cp:lastModifiedBy>
  <dcterms:modified xsi:type="dcterms:W3CDTF">2010-07-06T20:25:42Z</dcterms:modified>
  <cp:revision>5</cp:revision>
  <dc:subject/>
  <dc:title>An example of how Eclipse/StatET/Sweave  encourages good programming practice</dc:title>
</cp:coreProperties>
</file>