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175BE-7C85-4361-8A14-3204EF8A9EB0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A98CA-F0BA-4FFF-B710-5015649E6F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65AED-5EEB-444B-87D9-5706AB3D12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7CE08-1C10-451B-9E72-C5416E29E4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3F01-9231-4C8C-8232-A961F51D2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A1F0-6406-497C-B0FA-6EFAD4FAB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DF75-BE73-45C6-9D8A-BE80B5E05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D6BB-C024-479B-946D-244D523C6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40D0-93C4-4806-9C84-A2261C308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E93F-802A-4218-95BF-A92348B92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E37D-66AD-4C6C-93C6-3C0599660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7043-2ABB-43A5-B78D-BBFE4FC59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C7CD-8774-43D3-B23F-1CD330C1A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A20E-3667-4F97-BD36-5598094E1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7291-6FC3-4081-A783-6AEA35275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1859-3C03-401F-80F7-3230D1A05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7E69A-BE2B-4FA5-AF20-0B3F2E23D5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java.sun.com/" TargetMode="External"/><Relationship Id="rId2" Type="http://schemas.openxmlformats.org/officeDocument/2006/relationships/hyperlink" Target="http://r.research.att.com/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urdoch-sutherland.com/Rtools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clipse.org/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download.walware.de/eclipse-3.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ET – Setup and Instal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rol S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rol.Strain@fda.hhs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! July 2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ten Java Rel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 JRE under Run Configu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llow suggestions from http://www.walware.de/goto/stat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JRE tab, add to vm arguments: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87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"-Drjava.path=&lt;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ath to rJav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"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now Leop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ains about 32-bit R with 64-bit J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p -&gt; About Eclipse -&gt; Installation Details -&gt; Configu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ing R from sour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CMD javarecon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tex and Swea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istical Analyses and Reproducible Research (Gentleman and Lang 200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bepress.com/bioconductor/paper2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cTeX or MiKT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py style files from R-2.11.1/share/texmf to your TeX p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: $HOME/texmf/tex/lat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X: ~/Library/texmf/tex/lat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resh LaTeX data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ha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weave Set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eave Run Configurations (Eclipse 3.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eave Ta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weave Document Proc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R CMD Swe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e N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Tex Ta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 Format: 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clipse 3.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 inside conso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.Rnw file must be in working direc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ex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XClipse Highligh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 LaTeX from the Conso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oubleshooting SV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licts, SVN corrupted R files with “&lt;&lt;&lt;&lt;&lt;&lt;&lt;&lt;&lt; .mine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version attempts to merge files, resulting in *.mine, *.rX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it Conflicts, Mark Resol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o many files, large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0+ files in a folder is too many, 100 is ok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am Cleanup (svn cleanu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ked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clear O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y affected directories, delete *.svn fol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lace with repository ver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y/Replace workspace files with cop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se subversion his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bversion Prox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version servers file on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:\Documents and Settings\Errol.Strain\Application Data\Subver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global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http-proxy-exceptions = *.exception.com, www.internal-sit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http-proxy-host = defaultproxy.whatever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http-proxy-port = 7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http-proxy-username = defaultuser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http-proxy-password = defaultpassw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rs file is overwritten when updating eclipse/subclip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ep a backup of the working c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to look for hel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subclipse.tigris.org/wiki/PluginFA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svnkit.com/kb/config-setting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bversion Server Set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Apa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S X: /etc/apach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ux: /etc/httpd or /etc/apach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X Subversion Instal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sonzea.com/articles/subversion-trac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mrnovell.wordpress.com/2007/11/17/how-to-manage-your-own-subversion-repository-in-leopard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buntu: https://help.ubuntu.com/community/Subver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ewall sett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VN repository permis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arch for “apache dav sv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D Technolo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ine McVey, Daniel Samarov, Julie Leonard, Dylan Wilson, Perry Haa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han Wahlbri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– Center for Food Safety and Nutr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3657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screenshot1"/>
          <p:cNvPicPr/>
          <p:nvPr/>
        </p:nvPicPr>
        <p:blipFill>
          <a:blip r:embed="rId1"/>
          <a:stretch/>
        </p:blipFill>
        <p:spPr>
          <a:xfrm>
            <a:off x="533520" y="762120"/>
            <a:ext cx="8076960" cy="50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screenshot1"/>
          <p:cNvPicPr/>
          <p:nvPr/>
        </p:nvPicPr>
        <p:blipFill>
          <a:blip r:embed="rId1"/>
          <a:stretch/>
        </p:blipFill>
        <p:spPr>
          <a:xfrm>
            <a:off x="609480" y="990720"/>
            <a:ext cx="7782120" cy="48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erial to Co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mum Instal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lip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mmended Instal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ache, subversion, subclipse, LaTeX, R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cks and Troubleshoo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va (and rJava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n Java (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java.sun.co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for Linux &amp; Wind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RE 1.5 or hig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clipse/R/StatEt was crashing frequently with IBM java on RHEL4 x86_64 (but this may be fixed in recent vers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clipse can use local JRE if necess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(32-bi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AN binaries work in X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AN binaries (Snow Leopar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r.research.att.com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ced to compile, use MacPo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 (RHEL and Ubunt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AN binaries (RHEL 5 &amp; Lucid Lyn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ared/Dynamic Libraries, compile with “--enable-R-shlib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 and Pack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tup tested using R 2.11.1 on XP and Snow Leopar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Java (version 8.4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j (version 0.5.0-4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eded for StatET RJ laun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t available on CR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wnload from http://www.walware.de/goto/stat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 the terminal/console to inst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$ R CMD INSTALL --no-test-load rj_0.5.0-4.tar.gz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 2.10.1 does not have --no-test-load op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 Pa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T uses defined R environments, not the system R path in Windows and Lin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 R installations (Current version, previous working version, development vers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l/Console output and default StatET output be consis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s X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tings -&gt; Control Panel -&gt; System -&gt; Advanced -&gt; Environment Variables, then edit Path variable to include C:\R\R-2.11.1\b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create symbolic link from C:\R\R to C:\R\R-2.11.1 and edit path to include C:\R\R\b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S X and Lin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Users/username/.pro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home/username/.bash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ilding Pack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ilers (gcc, mingw, Fortran), Perl, bitmap libraries, gzip, tar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tools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murdoch-sutherland.com/Rtools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Code Developer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r.research.att.com/tools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ux (Ubunt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pt-get install r-base-d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clipse 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wnload Eclipse Classic (3.6) for your OS from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eclips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clipse IDE for Java Developers is also supposed to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naptic/Yum repository versions are usually a little beh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ract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eclipse folder per user is easiest (config setting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:\eclipse\eclipse36 (Window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home\user\eclipse\eclipse36 (Linu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tions Folder (OS 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ory settings (eclipse/configuration/config.in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ify/Add line to config.ini “-Xmx4096m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a Work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:\eclipse\workspace” or “\home\user\workspace” preferr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s it easier to switch machines and collaborate on projects (absolute path nam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 workspaces for different large, complex project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ug-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p -&gt; Install New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using Eclipse 3.5, add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download.walware.de/eclipse-3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using 3.6, download archive from http://www.walware.de/goto/stat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all StatET and related 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clipse (uses subvers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lp -&gt; Install New Soft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subclipse.tigris.org/update_1.6.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check Mylyn and Revision Grap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Git (uses gi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lp -&gt; Install New Soft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download.eclipse.org/releases/helios/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clipse StatET/R Tutor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stalling Plug-I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eate StatET proj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ecify Connect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w Console, Classic Console, Rgui, Xter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d R Environ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tect Default Properties/Setting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t as Defaul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 Console Launch Configur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unch the conso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 Inde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0T12:07:34Z</dcterms:created>
  <dc:creator>Errol.Strain</dc:creator>
  <dc:description/>
  <dc:language>en-US</dc:language>
  <cp:lastModifiedBy>t</cp:lastModifiedBy>
  <dcterms:modified xsi:type="dcterms:W3CDTF">2010-08-11T12:28:34Z</dcterms:modified>
  <cp:revision>162</cp:revision>
  <dc:subject/>
  <dc:title>StatET – Setup and Installation</dc:title>
</cp:coreProperties>
</file>