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659-E759-4CF2-B981-D4E4A0CA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980-9F25-4404-A111-3FF116AB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C48-82F3-4932-8749-70A80F52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529-E418-4311-A229-0C920E3B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E37-801E-4F33-B24F-A9044A7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F16-753F-4F52-BFA4-EE68CCE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1A9-0A55-4DCE-A728-1BB691EA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B46-F36B-4593-AC43-547C124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F44-64F4-4A4B-8B08-4ECBDAAB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FA-1341-43B2-B9DB-7833EC4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F3B-5518-4CC3-9009-6CFCD81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FDC-DD10-484B-96B6-C972D88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C4E-0F5F-4BAB-AFF5-81A59E7D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Coding Practice  in Eclipse/StatET/Sweave/Subvers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ine Mc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errors and make code easy to understand and reuse for yourself and others, aim to make your analysis code and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/subfolder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nctions when possible, saved in separate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pecific 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l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output pasting (Ctrl-R, Ctrl-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, FIXM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control (compare/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/att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icient data manipulation (plyr, re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 to read plot statements (ggplo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5:42Z</dcterms:created>
  <dc:creator>10066925</dc:creator>
  <dc:description/>
  <dc:language>en-US</dc:language>
  <cp:lastModifiedBy>10066925</cp:lastModifiedBy>
  <dcterms:modified xsi:type="dcterms:W3CDTF">2010-07-06T20:25:42Z</dcterms:modified>
  <cp:revision>5</cp:revision>
  <dc:subject/>
  <dc:title>An example of how Eclipse/StatET/Sweave  encourages good programming practice</dc:title>
</cp:coreProperties>
</file>