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288-E971-49A5-88B7-C17C58D8AE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927-52A9-4682-918E-E9A16754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407C-EB11-40D7-AE06-F950086C5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FF8-5CFE-49C7-BC88-4D899555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AE4-D2EA-43AC-BE0E-E8C3DC9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259-C5B3-44C9-B65E-1517C6E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AEF-64F0-41D4-8A4F-2E0061B3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C8C-1CF7-4C9B-B179-CB3AFC54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A3B-1E2F-4240-AE7B-388AF7E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A8A-13EA-429B-98BA-CC14C4A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5B3-7979-455E-8DD8-81C29C5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BAC-E19B-4124-AF0D-2C7D5F9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22C-3921-42EF-9AA2-198DA5E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903-3A80-4F7C-91A0-12CC625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8F0-68AE-4F74-A4C9-FF7AEA0C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E05-C947-4E19-A20A-B896085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E2F-EC50-4F7B-98F7-5DD69B46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r.research.at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rdoch-sutherland.com/Rtool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wnload.walware.de/eclipse-3.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T – Setup and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.Strain@fda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Ju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Java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JRE under Ru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suggestions from http://www.walware.de/goto/sta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RE tab, add to vm arguments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-Drjava.path=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th to rJa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 Leop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s about 32-bit R with 64-bit J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-&gt; About Eclipse -&gt; Installation Details -&gt;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R from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MD javare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x and Swe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es and Reproducible Research (Gentleman and Lang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epress.com/bioconductor/paper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TeX or MiK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style files from R-2.11.1/share/texmf to your TeX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$HOME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: ~/Library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LaTeX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av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ve Run Configurations (Eclipse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ave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ve Docum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 CMD Sw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mat: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nsid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Rnw file must be in working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lipse High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LaTeX from th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 SV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, SVN corrupted R files with “&lt;&lt;&lt;&lt;&lt;&lt;&lt;&lt;&lt; .mi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attempts to merge files, resulting in *.mine, *.r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onflicts, Mark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iles,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+ files in a folder is too many, 100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Cleanup (svn clean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ffected directories, delete *.svn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with repositor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/Replace workspace files with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subvers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servers file 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Documents and Settings\Errol.Strain\Application Data\Sub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lob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exceptions = *.exception.com, www.internal-sit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host = defaultproxy.whate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ort =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username = default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assword = default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file is overwritten when updating eclipse/sub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backup of the working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look 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bclipse.tigris.org/wiki/Plugin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nkit.com/kb/config-settin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Server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p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X: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: /etc/httpd or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 Subversion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zea.com/articles/subversion-tra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rnovell.wordpress.com/2007/11/17/how-to-manage-your-own-subversion-repository-in-leopar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: https://help.ubuntu.com/community/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N repository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“apache dav sv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ine McVey, Daniel Samarov, Julie Leonard, Dylan Wilson, Perry Ha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 Wahlb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– Center for Food Safety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creenshot1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shot1"/>
          <p:cNvPicPr/>
          <p:nvPr/>
        </p:nvPicPr>
        <p:blipFill>
          <a:blip r:embed="rId1"/>
          <a:stretch/>
        </p:blipFill>
        <p:spPr>
          <a:xfrm>
            <a:off x="609480" y="990720"/>
            <a:ext cx="7782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o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, subversion, subclipse, LaTeX, R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 and 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(and rJav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Jav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Linux &amp;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E 1.5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/R/StatEt was crashing frequently with IBM java on RHEL4 x86_64 (but this may be fixed in recent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can use local JR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work 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Snow Leop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.research.at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to compile, use Mac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(RHEL and Ubu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RHEL 5 &amp; Lucid Lyn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/Dynamic Libraries, compile with “--enable-R-shli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and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up tested using R 2.11.1 on XP and Snow Leop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ava (version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 (version 0.5.0-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ed for StatET RJ 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vailable on C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load from http://www.walware.de/goto/sta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erminal/console to inst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R CMD INSTALL --no-test-load rj_0.5.0-4.tar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2.10.1 does not have --no-test-load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T uses defined R environments, not the system R path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 installations (Current version, previous working version, development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/Console output and default StatET output be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s -&gt; Control Panel -&gt; System -&gt; Advanced -&gt; Environment Variables, then edit Path variable to include C:\R\R-2.11.1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symbolic link from C:\R\R to C:\R\R-2.11.1 and edit path to include C:\R\R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X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sers/username/.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ome/username/.bash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(gcc, mingw, Fortran), Perl, bitmap libraries, gzip, ta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tool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rdoch-sutherland.com/R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ode Develop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.research.att.com/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(Ubu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pt-get install r-base-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Eclipse Classic (3.6) for your OS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lip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IDE for Java Developers is also supposed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aptic/Yum repository versions are usually a little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clipse folder per user is easiest (config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eclipse3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home\user\eclipse\eclipse36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Folder (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ettings (eclipse/configuration/config.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/Add line to config.ini “-Xmx4096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workspace” or “\home\user\workspace”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easier to switch machines and collaborate on projects (absolute path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orkspaces for different large, complex pro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Eclipse 3.5, ad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wnload.walware.de/eclipse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3.6, download archive from http://www.walware.de/goto/sta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StatET and relate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ipse (uses sub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ubclipse.tigris.org/update_1.6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Mylyn and Revisio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t (uses g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wnload.eclipse.org/releases/helio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StatET/R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ing Plug-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tat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y Conn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onsole, Classic Console, Rgui, X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R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Default Properties/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as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Console Launch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the cons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2:07:34Z</dcterms:created>
  <dc:creator>Errol.Strain</dc:creator>
  <dc:description/>
  <dc:language>en-US</dc:language>
  <cp:lastModifiedBy>t</cp:lastModifiedBy>
  <dcterms:modified xsi:type="dcterms:W3CDTF">2010-08-11T12:28:34Z</dcterms:modified>
  <cp:revision>162</cp:revision>
  <dc:subject/>
  <dc:title>StatET – Setup and Installation</dc:title>
</cp:coreProperties>
</file>