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F98-A40D-49DD-BD89-FC237B17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32F-1957-48C4-8837-BDBD26BE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E46-E2B2-422B-A1F4-8129348C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CE2-1017-4E15-8199-0FC492EC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400-889A-46EF-A6B7-012F867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523-AFA7-4921-9C0D-7522974F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F58-674F-482E-84C5-6E8ECB73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D98-3FF6-4D1A-94DC-EDBBD1C0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FB6-0681-46C6-A6CE-4E43C4CE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923-C13F-4931-B4A9-7FB72B7C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BD3-2CCC-4E3C-B3AD-5CD718C0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15B-AE3C-4C35-9D3F-D9ED684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3F2F-6235-44BC-A18B-66A9A6D1B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Coding Practice  in Eclipse/StatET/Sweave/Subvers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ine Mc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errors and make code easy to understand and reuse for yourself and others, aim to make your analysis code and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/subfolder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unctions when possible, saved in separate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pecific R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l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output pasting (Ctrl-R, Ctrl-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, FIXM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control (compare/com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/att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ou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icient data manipulation (plyr, resh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 to read plot statements (ggplo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5:42Z</dcterms:created>
  <dc:creator>10066925</dc:creator>
  <dc:description/>
  <dc:language>en-US</dc:language>
  <cp:lastModifiedBy>10066925</cp:lastModifiedBy>
  <dcterms:modified xsi:type="dcterms:W3CDTF">2010-07-06T20:25:42Z</dcterms:modified>
  <cp:revision>5</cp:revision>
  <dc:subject/>
  <dc:title>An example of how Eclipse/StatET/Sweave  encourages good programming practice</dc:title>
</cp:coreProperties>
</file>